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798-B0E0-4C5E-A74C-FA05A509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324-E67D-4A92-9481-EFC0F8C7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B0A-F261-4950-8CE3-778BF74B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929-6C06-4FD6-83A2-B44A1E1D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5B91-BAF0-468F-BBF6-A891B6D1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7EA1-4D30-4A08-9713-D91E4127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CE33-C308-4661-992C-BB0BD954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8EA5-A634-4D9C-85AD-F71A5ABE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5485-8333-4D35-A709-C55DB888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7174-140D-402F-BABC-7674ECE3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0F5C-F438-4BF5-B784-A06D141E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8A3-6236-4300-ADE4-A381E85D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2F77-4119-42E9-8B85-2B96BD14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75D6-B03E-49CA-B9B8-B18253BC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B0BB-EE36-4A87-9224-E4C49ED8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8073-CB44-4793-8554-56B2FF20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EC36-D878-4713-8778-F0E055F5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C92-70D6-4600-AE49-D042492A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E4F-F2AA-45B8-A14F-389C8601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92A-005C-4B99-AE8C-A73D9E27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243-9078-46E8-95A9-BEBA9996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108-7D9B-41A2-A7B8-A6B06FC2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1DAA-F9C6-49AC-9B43-7359531A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55BE-59B3-47DE-ACEB-A070BCBC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URBBANND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84C2-B244-435A-9156-6B3C6C2A73AB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URBBANND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F75D-0916-4F0A-9195-534C4676D488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437920"/>
            <a:ext cx="6248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Impact"/>
              </a:rPr>
              <a:t>Symmetry &amp; Body Plan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Arial Black"/>
              </a:rPr>
              <a:t>4.   Posterior: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3047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dbc03"/>
                </a:solidFill>
                <a:latin typeface="Arial Black"/>
              </a:rPr>
              <a:t>tail end</a:t>
            </a:r>
            <a:endParaRPr b="0" lang="en-US" sz="49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2" name="HorseSymm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4678560" cy="41752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6019920" y="3886200"/>
            <a:ext cx="2895480" cy="627480"/>
            <a:chOff x="6019920" y="3886200"/>
            <a:chExt cx="2895480" cy="627480"/>
          </a:xfrm>
        </p:grpSpPr>
        <p:sp>
          <p:nvSpPr>
            <p:cNvPr id="124" name=""/>
            <p:cNvSpPr/>
            <p:nvPr/>
          </p:nvSpPr>
          <p:spPr>
            <a:xfrm>
              <a:off x="7086600" y="3886200"/>
              <a:ext cx="18288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dbc03"/>
                  </a:solidFill>
                  <a:latin typeface="Times New Roman"/>
                </a:rPr>
                <a:t>Posterior</a:t>
              </a:r>
              <a:endParaRPr b="0" lang="en-US" sz="35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019920" y="419112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8120" y="761760"/>
            <a:ext cx="2209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Impact"/>
              </a:rPr>
              <a:t>Radial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29718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480" y="761760"/>
            <a:ext cx="3200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Impact"/>
              </a:rPr>
              <a:t>Bilateral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14600" y="2519280"/>
            <a:ext cx="32004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761760"/>
            <a:ext cx="281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Impact"/>
              </a:rPr>
              <a:t>Spherical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27752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3200" y="837720"/>
            <a:ext cx="3200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Impact"/>
              </a:rPr>
              <a:t>Asymmetry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38527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04960" y="914040"/>
            <a:ext cx="2514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Impact"/>
              </a:rPr>
              <a:t>Radial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8120" y="2676600"/>
            <a:ext cx="32763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1800" y="761760"/>
            <a:ext cx="2819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Impact"/>
              </a:rPr>
              <a:t>Bilateral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35812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120" y="685440"/>
            <a:ext cx="3429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Impact"/>
              </a:rPr>
              <a:t>Asymmetry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2320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Arial Black"/>
              </a:rPr>
              <a:t>Symmetry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   </a:t>
            </a:r>
            <a:r>
              <a:rPr b="0" lang="en-US" sz="45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the arrangement of an organism’s body parts around a center point or line</a:t>
            </a:r>
            <a:r>
              <a:rPr b="1" lang="en-US" sz="45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 </a:t>
            </a:r>
            <a:endParaRPr b="0" lang="en-US" sz="45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A.  Spherical Symmetry: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   </a:t>
            </a:r>
            <a:r>
              <a:rPr b="0" lang="en-US" sz="45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round arrangement of body parts (very rare)</a:t>
            </a:r>
            <a:endParaRPr b="0" lang="en-US" sz="45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B.  Radial Symmetry: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     </a:t>
            </a:r>
            <a:r>
              <a:rPr b="0" lang="en-US" sz="45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body parts are arranged around a central point, like spokes on a wheel</a:t>
            </a:r>
            <a:endParaRPr b="0" lang="en-US" sz="4500" spc="-1" strike="noStrike">
              <a:solidFill>
                <a:srgbClr val="eae8e2"/>
              </a:solidFill>
              <a:latin typeface="Arial Narrow"/>
            </a:endParaRPr>
          </a:p>
          <a:p>
            <a:pPr marL="2811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C.</a:t>
            </a:r>
            <a:r>
              <a:rPr b="0" lang="en-US" sz="50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   Asymmetry: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no definite shape (rare)</a:t>
            </a:r>
            <a:endParaRPr b="0" lang="en-US" sz="49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D.   Bilateral Symmetry: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</a:t>
            </a:r>
            <a:r>
              <a:rPr b="0" lang="en-US" sz="45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one-half of the body is a mirror image of the other half</a:t>
            </a:r>
            <a:endParaRPr b="0" lang="en-US" sz="45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Arial Black"/>
              </a:rPr>
              <a:t>1.   Dorsal: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the upper surface (back)</a:t>
            </a:r>
            <a:endParaRPr b="0" lang="en-US" sz="41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4" name="HorseSymm" descr=""/>
          <p:cNvPicPr/>
          <p:nvPr/>
        </p:nvPicPr>
        <p:blipFill>
          <a:blip r:embed="rId1"/>
          <a:stretch/>
        </p:blipFill>
        <p:spPr>
          <a:xfrm>
            <a:off x="2362320" y="2682720"/>
            <a:ext cx="4678200" cy="41752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4191120" y="2057400"/>
            <a:ext cx="2133360" cy="1752480"/>
            <a:chOff x="4191120" y="2057400"/>
            <a:chExt cx="2133360" cy="1752480"/>
          </a:xfrm>
        </p:grpSpPr>
        <p:sp>
          <p:nvSpPr>
            <p:cNvPr id="106" name=""/>
            <p:cNvSpPr/>
            <p:nvPr/>
          </p:nvSpPr>
          <p:spPr>
            <a:xfrm>
              <a:off x="5029200" y="2743200"/>
              <a:ext cx="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1120" y="2057400"/>
              <a:ext cx="2133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dbc03"/>
                  </a:solidFill>
                  <a:latin typeface="Times New Roman"/>
                </a:rPr>
                <a:t>Dorsal</a:t>
              </a:r>
              <a:endParaRPr b="0" lang="en-US" sz="45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Arial Black"/>
              </a:rPr>
              <a:t>2.   Ventral: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12189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the lower surface (belly)</a:t>
            </a:r>
            <a:endParaRPr b="0" lang="en-US" sz="41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0" name="HorseSymm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4678200" cy="417528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4038480" y="4343400"/>
            <a:ext cx="2590920" cy="2516400"/>
            <a:chOff x="4038480" y="4343400"/>
            <a:chExt cx="2590920" cy="2516400"/>
          </a:xfrm>
        </p:grpSpPr>
        <p:sp>
          <p:nvSpPr>
            <p:cNvPr id="112" name=""/>
            <p:cNvSpPr/>
            <p:nvPr/>
          </p:nvSpPr>
          <p:spPr>
            <a:xfrm flipV="1">
              <a:off x="4876920" y="4343400"/>
              <a:ext cx="0" cy="18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6080040"/>
              <a:ext cx="2590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dbc03"/>
                  </a:solidFill>
                  <a:latin typeface="Times New Roman"/>
                </a:rPr>
                <a:t>Ventral</a:t>
              </a:r>
              <a:endParaRPr b="0" lang="en-US" sz="45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3.  </a:t>
            </a:r>
            <a:r>
              <a:rPr b="1" lang="en-US" sz="50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Anterior: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c03"/>
                </a:solidFill>
                <a:latin typeface="Arial Narrow"/>
                <a:ea typeface="Times New Roman"/>
              </a:rPr>
              <a:t>  </a:t>
            </a:r>
            <a:r>
              <a:rPr b="0" lang="en-US" sz="45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front end (head)</a:t>
            </a:r>
            <a:endParaRPr b="0" lang="en-US" sz="45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6" name="HorseSymm" descr=""/>
          <p:cNvPicPr/>
          <p:nvPr/>
        </p:nvPicPr>
        <p:blipFill>
          <a:blip r:embed="rId1"/>
          <a:stretch/>
        </p:blipFill>
        <p:spPr>
          <a:xfrm>
            <a:off x="4465800" y="2682720"/>
            <a:ext cx="4678200" cy="417528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762120" y="3352680"/>
            <a:ext cx="3657600" cy="703440"/>
            <a:chOff x="762120" y="3352680"/>
            <a:chExt cx="3657600" cy="703440"/>
          </a:xfrm>
        </p:grpSpPr>
        <p:sp>
          <p:nvSpPr>
            <p:cNvPr id="118" name=""/>
            <p:cNvSpPr/>
            <p:nvPr/>
          </p:nvSpPr>
          <p:spPr>
            <a:xfrm>
              <a:off x="762120" y="3352680"/>
              <a:ext cx="220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dbc03"/>
                  </a:solidFill>
                  <a:latin typeface="Times New Roman"/>
                </a:rPr>
                <a:t>Anterior</a:t>
              </a:r>
              <a:endParaRPr b="0" lang="en-US" sz="40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3809880"/>
              <a:ext cx="175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21:25:12Z</dcterms:created>
  <dc:creator>Plano ISD</dc:creator>
  <dc:description/>
  <dc:language>en-US</dc:language>
  <cp:lastModifiedBy>Plano ISD</cp:lastModifiedBy>
  <dcterms:modified xsi:type="dcterms:W3CDTF">2004-02-11T19:59:35Z</dcterms:modified>
  <cp:revision>12</cp:revision>
  <dc:subject/>
  <dc:title>Symmetry &amp; Body Plan</dc:title>
</cp:coreProperties>
</file>